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EA0-B2A9-4DE0-BF6E-3116F6EB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3E9-1796-4C5D-B12F-E6EE57C4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6D6-5362-47BE-936F-C1D298C1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3A7-CAE9-4A86-B968-E168D8DB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F6F-F2B6-4AAB-89AE-B53C88D9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D30-0DCD-49CE-B312-8A654E54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889-4860-4C8D-B1E5-B29A5A57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87B-599E-4DF6-ADCB-6B3BC048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F41-5EE3-420B-AAA6-B52119AB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601-F714-4104-87F8-49273B0D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6F6-4CEA-45C2-A8A0-37FB467E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B9F-0CDE-4412-A85D-89FE3D49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B24-40E6-488E-B65E-7A8963D39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06880" y="217440"/>
            <a:ext cx="3768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Área do Pentágono = [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+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Área do Pentágono = [5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+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/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70880" y="993600"/>
            <a:ext cx="249120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versã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 = [R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– 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= [L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+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99320" y="2000160"/>
            <a:ext cx="2405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= [L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+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= [R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+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440" y="2762280"/>
            <a:ext cx="2294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 = [L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+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 = [R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+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/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98960" y="3524400"/>
            <a:ext cx="21924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= [L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+2(5)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/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= [R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+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/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360" y="4375080"/>
            <a:ext cx="335664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ege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lado do pentág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raio da circunferência circunscri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apótema do pentág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altura do pentág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diagonal do pentág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22640" y="4253040"/>
            <a:ext cx="489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ão fora calculado, mas é possível ainda calcular os ângulos d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través de cálculos no decágo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76920"/>
            <a:ext cx="990360" cy="175248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5791320"/>
            <a:ext cx="990360" cy="83808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08800" y="6431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4520" y="6202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31000" y="5867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75280" y="5059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4952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4840" y="56070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+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920" y="6553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24280" y="5562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98000" y="507348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(A+D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+ (L/2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90440" y="5575320"/>
            <a:ext cx="189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+D]/X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8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L/2]/X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8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A+D]/[L/2]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g8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35240" y="1467000"/>
            <a:ext cx="21740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dos os cálculos est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pl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5120" y="219240"/>
            <a:ext cx="3462480" cy="3514680"/>
            <a:chOff x="195120" y="219240"/>
            <a:chExt cx="3462480" cy="3514680"/>
          </a:xfrm>
        </p:grpSpPr>
        <p:graphicFrame>
          <p:nvGraphicFramePr>
            <p:cNvPr id="62" name=""/>
            <p:cNvGraphicFramePr/>
            <p:nvPr/>
          </p:nvGraphicFramePr>
          <p:xfrm>
            <a:off x="195120" y="219240"/>
            <a:ext cx="3462480" cy="35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5120" y="219240"/>
                      <a:ext cx="3462480" cy="35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1678320" y="2681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3429000"/>
            <a:ext cx="2286000" cy="457200"/>
          </a:xfrm>
          <a:custGeom>
            <a:avLst/>
            <a:gdLst/>
            <a:ahLst/>
            <a:rect l="l" t="t" r="r" b="b"/>
            <a:pathLst>
              <a:path w="1376" h="258">
                <a:moveTo>
                  <a:pt x="0" y="26"/>
                </a:moveTo>
                <a:cubicBezTo>
                  <a:pt x="39" y="50"/>
                  <a:pt x="125" y="124"/>
                  <a:pt x="232" y="162"/>
                </a:cubicBezTo>
                <a:cubicBezTo>
                  <a:pt x="339" y="200"/>
                  <a:pt x="509" y="250"/>
                  <a:pt x="644" y="254"/>
                </a:cubicBezTo>
                <a:cubicBezTo>
                  <a:pt x="779" y="258"/>
                  <a:pt x="931" y="227"/>
                  <a:pt x="1045" y="189"/>
                </a:cubicBezTo>
                <a:cubicBezTo>
                  <a:pt x="1159" y="151"/>
                  <a:pt x="1280" y="52"/>
                  <a:pt x="1328" y="26"/>
                </a:cubicBezTo>
                <a:cubicBezTo>
                  <a:pt x="1376" y="0"/>
                  <a:pt x="1334" y="32"/>
                  <a:pt x="1336" y="34"/>
                </a:cubicBezTo>
              </a:path>
            </a:pathLst>
          </a:custGeom>
          <a:solidFill>
            <a:srgbClr val="4d4d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0960" y="235080"/>
            <a:ext cx="3430800" cy="3263760"/>
          </a:xfrm>
          <a:custGeom>
            <a:avLst/>
            <a:gdLst/>
            <a:ahLst/>
            <a:rect l="l" t="t" r="r" b="b"/>
            <a:pathLst>
              <a:path w="2161" h="2056">
                <a:moveTo>
                  <a:pt x="1081" y="0"/>
                </a:moveTo>
                <a:lnTo>
                  <a:pt x="1620" y="393"/>
                </a:lnTo>
                <a:lnTo>
                  <a:pt x="2161" y="786"/>
                </a:lnTo>
                <a:lnTo>
                  <a:pt x="1954" y="1421"/>
                </a:lnTo>
                <a:lnTo>
                  <a:pt x="1749" y="2056"/>
                </a:lnTo>
                <a:lnTo>
                  <a:pt x="1081" y="2056"/>
                </a:lnTo>
                <a:lnTo>
                  <a:pt x="412" y="2056"/>
                </a:lnTo>
                <a:lnTo>
                  <a:pt x="207" y="1421"/>
                </a:lnTo>
                <a:lnTo>
                  <a:pt x="0" y="786"/>
                </a:lnTo>
                <a:lnTo>
                  <a:pt x="541" y="393"/>
                </a:lnTo>
                <a:lnTo>
                  <a:pt x="1081" y="0"/>
                </a:lnTo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28600"/>
            <a:ext cx="2133720" cy="32767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057400"/>
            <a:ext cx="213372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0" y="1447560"/>
            <a:ext cx="1905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66680"/>
            <a:ext cx="228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5520" y="139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0800" y="4114800"/>
            <a:ext cx="21906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= L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-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= R (5-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]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L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-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R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-2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L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-10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R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-6(5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]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5680" y="16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75240" y="351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228600"/>
            <a:ext cx="3581640" cy="3657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24280" y="228600"/>
            <a:ext cx="3581280" cy="4952880"/>
            <a:chOff x="4724280" y="228600"/>
            <a:chExt cx="3581280" cy="4952880"/>
          </a:xfrm>
        </p:grpSpPr>
        <p:sp>
          <p:nvSpPr>
            <p:cNvPr id="78" name=""/>
            <p:cNvSpPr/>
            <p:nvPr/>
          </p:nvSpPr>
          <p:spPr>
            <a:xfrm>
              <a:off x="4724280" y="228600"/>
              <a:ext cx="3581280" cy="49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5028840" y="456840"/>
              <a:ext cx="2629440" cy="838080"/>
              <a:chOff x="5028840" y="456840"/>
              <a:chExt cx="2629440" cy="838080"/>
            </a:xfrm>
          </p:grpSpPr>
          <p:sp>
            <p:nvSpPr>
              <p:cNvPr id="80" name=""/>
              <p:cNvSpPr/>
              <p:nvPr/>
            </p:nvSpPr>
            <p:spPr>
              <a:xfrm>
                <a:off x="5028840" y="456840"/>
                <a:ext cx="533160" cy="838080"/>
              </a:xfrm>
              <a:prstGeom prst="triangle">
                <a:avLst>
                  <a:gd name="adj" fmla="val 50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67480" y="747360"/>
                <a:ext cx="1990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 = L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5+2(5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]/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028840" y="1676160"/>
              <a:ext cx="2943000" cy="398880"/>
              <a:chOff x="5028840" y="1676160"/>
              <a:chExt cx="2943000" cy="398880"/>
            </a:xfrm>
          </p:grpSpPr>
          <p:sp>
            <p:nvSpPr>
              <p:cNvPr id="83" name=""/>
              <p:cNvSpPr/>
              <p:nvPr/>
            </p:nvSpPr>
            <p:spPr>
              <a:xfrm>
                <a:off x="5028840" y="1676160"/>
                <a:ext cx="533160" cy="38088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74680" y="1737720"/>
                <a:ext cx="229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 = L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5+10(5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]/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5028840" y="2514240"/>
              <a:ext cx="2935080" cy="761760"/>
              <a:chOff x="5028840" y="2514240"/>
              <a:chExt cx="2935080" cy="76176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5028840" y="2514240"/>
                <a:ext cx="533160" cy="761760"/>
                <a:chOff x="5028840" y="2514240"/>
                <a:chExt cx="533160" cy="7617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028840" y="2514240"/>
                  <a:ext cx="533160" cy="761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028840" y="2939400"/>
                  <a:ext cx="533160" cy="336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295240" y="2939400"/>
                  <a:ext cx="26640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5028840" y="2939400"/>
                  <a:ext cx="26640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95240" y="2514240"/>
                  <a:ext cx="26640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5028840" y="2514240"/>
                  <a:ext cx="26640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5666760" y="2710800"/>
                <a:ext cx="229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 = L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50+10(5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]/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064840" y="3386880"/>
              <a:ext cx="2703600" cy="908640"/>
              <a:chOff x="5064840" y="3386880"/>
              <a:chExt cx="2703600" cy="908640"/>
            </a:xfrm>
          </p:grpSpPr>
          <p:sp>
            <p:nvSpPr>
              <p:cNvPr id="95" name=""/>
              <p:cNvSpPr/>
              <p:nvPr/>
            </p:nvSpPr>
            <p:spPr>
              <a:xfrm rot="4330200">
                <a:off x="4969440" y="3639960"/>
                <a:ext cx="825120" cy="401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75400" y="3688560"/>
                <a:ext cx="2093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 = L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+2(5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)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]/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028840" y="4724280"/>
              <a:ext cx="609840" cy="75600"/>
            </a:xfrm>
            <a:custGeom>
              <a:avLst/>
              <a:gdLst/>
              <a:ahLst/>
              <a:rect l="l" t="t" r="r" b="b"/>
              <a:pathLst>
                <a:path w="1368" h="236">
                  <a:moveTo>
                    <a:pt x="0" y="0"/>
                  </a:moveTo>
                  <a:cubicBezTo>
                    <a:pt x="44" y="24"/>
                    <a:pt x="159" y="105"/>
                    <a:pt x="272" y="144"/>
                  </a:cubicBezTo>
                  <a:cubicBezTo>
                    <a:pt x="385" y="183"/>
                    <a:pt x="544" y="228"/>
                    <a:pt x="680" y="232"/>
                  </a:cubicBezTo>
                  <a:cubicBezTo>
                    <a:pt x="816" y="236"/>
                    <a:pt x="973" y="205"/>
                    <a:pt x="1088" y="168"/>
                  </a:cubicBezTo>
                  <a:cubicBezTo>
                    <a:pt x="1203" y="131"/>
                    <a:pt x="1310" y="41"/>
                    <a:pt x="1368" y="8"/>
                  </a:cubicBezTo>
                  <a:cubicBezTo>
                    <a:pt x="1368" y="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40120" y="4571640"/>
              <a:ext cx="24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 = (A</a:t>
              </a: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Circunferência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– A</a:t>
              </a: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Pentágono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)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27332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18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-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18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+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18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-10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36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-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36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+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36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54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+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54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-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54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+10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72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0+2(5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72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-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72</a:t>
            </a:r>
            <a:r>
              <a:rPr b="1" lang="en-US" sz="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+2(5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9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/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16880" y="685800"/>
            <a:ext cx="30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odas os Valores estão simplificado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7760" y="30492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Ângulos Complex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9920" y="6019920"/>
            <a:ext cx="3347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Cláudio Lobo Chaib Filho - 16/04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tato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:    overdusk@uol.com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13:03:06Z</dcterms:created>
  <dc:creator>Claudio</dc:creator>
  <dc:description/>
  <dc:language>en-US</dc:language>
  <cp:lastModifiedBy>Claudio</cp:lastModifiedBy>
  <dcterms:modified xsi:type="dcterms:W3CDTF">2001-04-16T21:13:04Z</dcterms:modified>
  <cp:revision>93</cp:revision>
  <dc:subject/>
  <dc:title>Apresentação do PowerPoint</dc:title>
</cp:coreProperties>
</file>